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B73A8-7525-48D1-BEC9-B46DA26E7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176C1-50A2-4CF0-874E-AC2F089D6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41571-1428-4465-8CFB-FAB234159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6A1CA-170D-43B7-9A9C-4DEA02404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93964-0EF7-4694-AAB4-ED33F9E10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D9748-13BA-4E76-ACE2-F7B27EA27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937B2-1993-4B1D-88CB-AE4103A37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FA23D-3886-428D-9584-07E63C45E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E50AD-B927-4BAA-B09E-7D7475445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D0A69-D384-4126-9508-E5E31DA89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A3DC7-B1C6-4BA8-9B7D-4FF37043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23E4-468B-41FD-8047-5CACB8FE5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0CCC-49E5-43A0-B020-337B08638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28240"/>
            <a:ext cx="91440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i="1" lang="en-US" sz="2000" spc="-1" strike="noStrike">
                <a:solidFill>
                  <a:srgbClr val="000000"/>
                </a:solidFill>
                <a:latin typeface="Arial"/>
              </a:rPr>
              <a:t>Morning Warm- Up!</a:t>
            </a:r>
            <a:br>
              <a:rPr sz="6200"/>
            </a:br>
            <a:r>
              <a:rPr b="0" lang="en-US" sz="6300" spc="-1" strike="noStrike">
                <a:solidFill>
                  <a:srgbClr val="000000"/>
                </a:solidFill>
                <a:latin typeface="Arial"/>
              </a:rPr>
              <a:t>Fires, tornadoes, and getting lost are hazards.  People can often get hurt.  What can we do in a dangerous situation?</a:t>
            </a:r>
            <a:endParaRPr b="0" lang="en-US" sz="6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28240"/>
            <a:ext cx="86868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2000" spc="-1" strike="noStrike">
                <a:solidFill>
                  <a:srgbClr val="000000"/>
                </a:solidFill>
                <a:latin typeface="Arial"/>
              </a:rPr>
              <a:t>Morning Warm- Up</a:t>
            </a:r>
            <a:br>
              <a:rPr sz="2000"/>
            </a:br>
            <a:r>
              <a:rPr b="0" lang="en-US" sz="6000" spc="-1" strike="noStrike">
                <a:solidFill>
                  <a:srgbClr val="000000"/>
                </a:solidFill>
                <a:latin typeface="Arial"/>
              </a:rPr>
              <a:t>Today we will read about Jim and his smart dogs.  We will read about how the dogs try hard to help Jim before it’s too late.  What are some ways for dogs to help peop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05280"/>
            <a:ext cx="8686800" cy="716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400" spc="-1" strike="noStrike">
                <a:solidFill>
                  <a:srgbClr val="000000"/>
                </a:solidFill>
                <a:latin typeface="Arial"/>
              </a:rPr>
              <a:t>Morning Warm- Up!</a:t>
            </a:r>
            <a:br>
              <a:rPr sz="2000"/>
            </a:br>
            <a:r>
              <a:rPr b="0" lang="en-US" sz="6000" spc="-1" strike="noStrike">
                <a:solidFill>
                  <a:srgbClr val="000000"/>
                </a:solidFill>
                <a:latin typeface="Arial"/>
              </a:rPr>
              <a:t>Today we will read about Snoop.  Snoop is a brave dog who searches for lost people.  When would people need to use a dog like Snoop?</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i="1" lang="en-US" sz="1400" spc="-1" strike="noStrike">
                <a:solidFill>
                  <a:srgbClr val="000000"/>
                </a:solidFill>
                <a:latin typeface="Arial"/>
              </a:rPr>
              <a:t>Morning Warm- Up!</a:t>
            </a:r>
            <a:br>
              <a:rPr sz="1400"/>
            </a:br>
            <a:r>
              <a:rPr b="0" lang="en-US" sz="6600" spc="-1" strike="noStrike">
                <a:solidFill>
                  <a:srgbClr val="000000"/>
                </a:solidFill>
                <a:latin typeface="Arial"/>
              </a:rPr>
              <a:t>Some dogs have jobs.  Today we will read about how some dogs are trained to save lives.  What kinds of work do dogs do?</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960"/>
            <a:ext cx="8686800" cy="70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000000"/>
                </a:solidFill>
                <a:latin typeface="Arial"/>
              </a:rPr>
              <a:t>Morning Warm- Up!</a:t>
            </a:r>
            <a:br>
              <a:rPr sz="3800"/>
            </a:br>
            <a:r>
              <a:rPr b="0" lang="en-US" sz="4800" spc="-1" strike="noStrike">
                <a:solidFill>
                  <a:srgbClr val="000000"/>
                </a:solidFill>
                <a:latin typeface="Arial"/>
              </a:rPr>
              <a:t>This week we read about dogs that helped a man who fell through thin ice, dogs that rescue, and dolphins that got caught in traps.  The rescuers worked together quickly to save lives.  How can we help during dangerous ev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2:11:12Z</dcterms:created>
  <dc:creator> </dc:creator>
  <dc:description/>
  <dc:language>en-US</dc:language>
  <cp:lastModifiedBy> </cp:lastModifiedBy>
  <dcterms:modified xsi:type="dcterms:W3CDTF">2007-05-16T22:06:49Z</dcterms:modified>
  <cp:revision>38</cp:revision>
  <dc:subject/>
  <dc:title> Morning Warm- Up! The cat needs some water.  The dog wants a bone.  That bird lives in a birdhouse where she feels quite at home.  How do people take care of pets?</dc:title>
</cp:coreProperties>
</file>